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92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95560" y="0"/>
            <a:ext cx="29592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014120" y="766440"/>
            <a:ext cx="4902120" cy="367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eb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672080"/>
            <a:ext cx="5064120" cy="4519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18320"/>
            <a:ext cx="29592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95560" y="9418320"/>
            <a:ext cx="29592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9C2BE3C-44C4-4357-B3BD-3EA253495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95560" y="9418680"/>
            <a:ext cx="2959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92C6F73-884F-4F9B-AA29-81E31F8B3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14480" y="76680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672080"/>
            <a:ext cx="5064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95560" y="9418680"/>
            <a:ext cx="2959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5657F88-11E0-45E6-A07F-C72E22A8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14480" y="76680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672080"/>
            <a:ext cx="5064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95560" y="9418680"/>
            <a:ext cx="2959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1B3A3B-5F89-4280-85D5-83AAF69A3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14480" y="76680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672080"/>
            <a:ext cx="5064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95560" y="9418680"/>
            <a:ext cx="2959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7DD3877-FD37-4990-B6AC-2280F8FE3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14480" y="76680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672080"/>
            <a:ext cx="5064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627800"/>
            <a:ext cx="6858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0012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00120" y="462780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04560" y="243828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22960" y="243828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62780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04560" y="462780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22960" y="462780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34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00120" y="2438280"/>
            <a:ext cx="334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08120" y="1355400"/>
            <a:ext cx="807408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00120" y="2438280"/>
            <a:ext cx="334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34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012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00120" y="462780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0012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6858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627800"/>
            <a:ext cx="6858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0012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200120" y="462780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04560" y="243828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22960" y="243828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62780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04560" y="462780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322960" y="4627800"/>
            <a:ext cx="220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34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00120" y="2438280"/>
            <a:ext cx="334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08120" y="1355400"/>
            <a:ext cx="807408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00120" y="2438280"/>
            <a:ext cx="334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34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012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00120" y="462780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00120" y="2438280"/>
            <a:ext cx="3346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6858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raining_vic07_02"/>
          <p:cNvPicPr/>
          <p:nvPr/>
        </p:nvPicPr>
        <p:blipFill>
          <a:blip r:embed="rId2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eb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083" descr="training_vic07_01"/>
          <p:cNvPicPr/>
          <p:nvPr/>
        </p:nvPicPr>
        <p:blipFill>
          <a:blip r:embed="rId2"/>
          <a:stretch/>
        </p:blipFill>
        <p:spPr>
          <a:xfrm>
            <a:off x="0" y="-6984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eb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b2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training_vic07_03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920" y="2133720"/>
            <a:ext cx="8074080" cy="21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orkers Compensation Forum </a:t>
            </a:r>
            <a:br>
              <a:rPr sz="3600"/>
            </a:br>
            <a:br>
              <a:rPr sz="3600"/>
            </a:b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orking with Your Insurer</a:t>
            </a: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00b2eb"/>
              </a:solidFill>
              <a:latin typeface="Arial"/>
            </a:endParaRPr>
          </a:p>
        </p:txBody>
      </p:sp>
      <p:pic>
        <p:nvPicPr>
          <p:cNvPr id="87" name="Picture 12" descr="820"/>
          <p:cNvPicPr/>
          <p:nvPr/>
        </p:nvPicPr>
        <p:blipFill>
          <a:blip r:embed="rId2"/>
          <a:stretch/>
        </p:blipFill>
        <p:spPr>
          <a:xfrm>
            <a:off x="179280" y="4448160"/>
            <a:ext cx="24098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b2eb"/>
                </a:solidFill>
                <a:latin typeface="Arial"/>
              </a:rPr>
              <a:t>Communication Strategies</a:t>
            </a:r>
            <a:endParaRPr b="1" lang="en-US" sz="32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at additional services does my insurer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@QBEConnect online claims analysis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tional training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isk management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ou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lf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b2eb"/>
                </a:solidFill>
                <a:latin typeface="Arial"/>
              </a:rPr>
              <a:t>What Is Our Common Goal?</a:t>
            </a:r>
            <a:endParaRPr b="1" lang="en-US" sz="32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EALT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b2eb"/>
                </a:solidFill>
                <a:latin typeface="Arial"/>
              </a:rPr>
              <a:t>Session Outline</a:t>
            </a:r>
            <a:endParaRPr b="1" lang="en-US" sz="32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Ins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bilit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um Cost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b2eb"/>
                </a:solidFill>
                <a:latin typeface="Arial"/>
              </a:rPr>
              <a:t>Role of the Insurer</a:t>
            </a:r>
            <a:endParaRPr b="1" lang="en-US" sz="32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 claims agents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 point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visional 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im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rove services &amp; authorise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fe, durable, speedy R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jury Manage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gular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b2eb"/>
                </a:solidFill>
                <a:latin typeface="Arial"/>
              </a:rPr>
              <a:t>Liability Decisions</a:t>
            </a:r>
            <a:endParaRPr b="1" lang="en-US" sz="32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4d4d"/>
                </a:solidFill>
                <a:latin typeface="Arial"/>
              </a:rPr>
              <a:t>A no faul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d4d4d"/>
                </a:solidFill>
                <a:latin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d4d4d"/>
                </a:solidFill>
                <a:latin typeface="Arial"/>
              </a:rPr>
              <a:t>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d4d4d"/>
                </a:solidFill>
                <a:latin typeface="Arial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d4d4d"/>
                </a:solidFill>
                <a:latin typeface="Arial"/>
              </a:rPr>
              <a:t>Aggravation of pre-existing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d4d4d"/>
                </a:solidFill>
                <a:latin typeface="Arial"/>
              </a:rPr>
              <a:t>Journey &amp; recess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b2eb"/>
                </a:solidFill>
                <a:latin typeface="Arial"/>
              </a:rPr>
              <a:t>Liability Decisions</a:t>
            </a:r>
            <a:endParaRPr b="1" lang="en-US" sz="32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itial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orkCover medica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im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formation provided during 3 point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gislation &amp; WorkCover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ponsibility of all parties to provide accur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b2eb"/>
                </a:solidFill>
                <a:latin typeface="Arial"/>
              </a:rPr>
              <a:t>Industry Performance - Employment Injuries </a:t>
            </a:r>
            <a:endParaRPr b="1" lang="en-US" sz="28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SW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idence rate – 14 per 1000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equency rate – 8.5 per million hours wo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mun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idence rate – 1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2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equency rate – 1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idence, frequency, time lost greater than NSW average but cost of claims l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b2eb"/>
                </a:solidFill>
                <a:latin typeface="Arial"/>
              </a:rPr>
              <a:t>How is My Premium Calculated?</a:t>
            </a:r>
            <a:endParaRPr b="1" lang="en-US" sz="32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C premium based on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dustry – 3.184% (non-residential care 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ze/w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i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DL, G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tal premium – adjustment &amp; rene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b2eb"/>
                </a:solidFill>
                <a:latin typeface="Arial"/>
              </a:rPr>
              <a:t>What Impacts Claims Costs</a:t>
            </a:r>
            <a:endParaRPr b="1" lang="en-US" sz="32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ims costs are impac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umber of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verity of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ime of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TW outcomes &amp;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sp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HS &amp; RTW practices impact/drive pre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8120" y="1355400"/>
            <a:ext cx="80740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b2eb"/>
                </a:solidFill>
                <a:latin typeface="Arial"/>
              </a:rPr>
              <a:t>Communication Strategies</a:t>
            </a:r>
            <a:endParaRPr b="1" lang="en-US" sz="3200" spc="-1" strike="noStrike">
              <a:solidFill>
                <a:srgbClr val="00b2e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Know your insurer and their servic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se Management Model Eg QBE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o is my case mana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do I contact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itial contact process – online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ssue resolution &amp; esca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all relev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ust their 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2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23:13:39Z</dcterms:created>
  <dc:creator>Andrea Hirst</dc:creator>
  <dc:description/>
  <dc:language>en-US</dc:language>
  <cp:lastModifiedBy>susan smith</cp:lastModifiedBy>
  <cp:lastPrinted>2002-06-19T02:01:22Z</cp:lastPrinted>
  <dcterms:modified xsi:type="dcterms:W3CDTF">2010-09-21T22:58:44Z</dcterms:modified>
  <cp:revision>416</cp:revision>
  <dc:subject/>
  <dc:title>FAIRFAX PRESENTATION</dc:title>
</cp:coreProperties>
</file>